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731-32DC-47EF-8DB4-BE35EBB1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BC9-8B7C-4260-8CB7-F5F4D970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5AB-0230-43D5-AF8F-7F5B5A15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D40-F35D-453D-A9B6-9334B46B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287-8AFD-4130-9290-50423A5D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47F-31AB-4962-9E54-A818338B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FCE-FAC3-4138-8DE9-862CA067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3B2-320E-4DF8-9A00-14C1D78D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0BD-727D-4466-B0E5-524AE344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103-2C20-40E3-9CE4-704F110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AFA-BF5B-41A4-AB3D-BD0DF5E4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BC6-24E1-4062-BCAC-63F1A901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E09A-09FE-4293-8AD7-B4025911C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of Options for Reforming New Hampshire’s Tax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t Gard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itute on Taxation and Economic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11 L Street 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shington, DC 20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02) 626-37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tepne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20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34800"/>
            <a:ext cx="7619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cting a flat-rate income tax would make the tax system more progr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1517760"/>
            <a:ext cx="6858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520" y="461880"/>
            <a:ext cx="867096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460440"/>
            <a:ext cx="792468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351000"/>
            <a:ext cx="8001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406440"/>
            <a:ext cx="792504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406440"/>
            <a:ext cx="807696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21:28:33Z</dcterms:created>
  <dc:creator>Matthew Gardner</dc:creator>
  <dc:description/>
  <dc:language>en-US</dc:language>
  <cp:lastModifiedBy>Matthew Gardner</cp:lastModifiedBy>
  <dcterms:modified xsi:type="dcterms:W3CDTF">2002-08-20T11:13:45Z</dcterms:modified>
  <cp:revision>14</cp:revision>
  <dc:subject/>
  <dc:title>Slide 1</dc:title>
</cp:coreProperties>
</file>