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97688" cy="9183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97600" cy="91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76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6360" y="0"/>
            <a:ext cx="29876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2000" y="688680"/>
            <a:ext cx="45910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361040"/>
            <a:ext cx="5518080" cy="4132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876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6360" y="8721720"/>
            <a:ext cx="29876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1A712-483C-4F38-8BD4-AD52523C4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52360" y="6872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9080" y="4361040"/>
            <a:ext cx="5058000" cy="4133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n’t (or at least shouldn’t b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 care is com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-Cal is com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es are relatively simple in compar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52360" y="6872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9080" y="4361040"/>
            <a:ext cx="5058000" cy="4133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ce refers to who actually pays the tax and how that impacts taxpayers at differing income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types of taxes: progressive, regressive, and fl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57E-B176-4D6A-8646-CDE232B1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2B4-F03B-4832-ACE8-6081BE63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753-7DD3-4381-9C3A-64680870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1CC-7608-4E30-A6EB-55818E10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6A7-8439-4C77-A891-2DBD9C1F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412-6627-4C17-8B25-ABF63B26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575-7CD7-4A24-9A77-FAC58DFD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FC5-44C4-4F84-BD52-23965F0E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FD2-058D-4B0D-AA88-DFB5DE2F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925-19AF-4F17-982E-172326F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AC9-82E6-4A29-B44D-50D75E38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423-5103-461F-A479-84526434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08F0-4ABB-4152-B058-174B7864D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x Options for Alaska: Distributional Implications of Major Alternatives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5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 Gard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n Taxation and Economic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11 L Street 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hington, DC 20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2) 626-3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itepne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income taxes are among the most progressive taxes states can levy– but some income taxes are more progressive than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154160"/>
            <a:ext cx="81532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Federal Deductibility Matters: Impact of a $300 Million “% of Federal” Tax Before and After Fed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re Progressive the Income Tax, the Greater the “Federal Offs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62160" y="1600200"/>
            <a:ext cx="6619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447840"/>
            <a:ext cx="8991720" cy="61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Tax Equ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: High income taxpayers pay a greater share of their income than do low income taxp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ress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: Low income taxpayers pay a greater share of their income than do high income taxp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“flat” tax: All taxpayers pay the same share of their inc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320760"/>
            <a:ext cx="80010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aska taxes are regress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907920"/>
            <a:ext cx="838224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Makes State and Local Taxes Regress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P’s 1995 “Who Pays” study found that the most regressive tax systems ten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Dingbats BT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y heavily on sales and excise ta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Dingbats BT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mpose a personal income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Dingbats BT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e an income tax, but at a low, fla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ely, the least regressive tax systems were thos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Dingbats BT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ose a progressive income 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Dingbats BT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y very little on sales and excise ta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rmanent Fund Dividend has its biggest impact, as a percentage of gross income, on the poorest Alask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98640"/>
            <a:ext cx="83818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atewide sales tax would fall most heavily on low-income taxp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266840"/>
            <a:ext cx="8610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because low-income Alaskans spend a greater percentage of their income on items subject to the sales 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aches to a Federal-Based Income 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ZapfDingbats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ed Gross Income (FAG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approach links to the federal tax before exemptions and deductions are allowed, and before the tax rates are appl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ZapfDingbats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able Income (FT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approach links to the federal ta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mptions and deductions are allowed, but before the tax rates are appl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ZapfDingbats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deral Tax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approach links to the federal ta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mptions and deductions are allowed, and after the tax rates are appl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2T18:40:21Z</dcterms:created>
  <dc:creator>Matthew Gardner</dc:creator>
  <dc:description/>
  <dc:language>en-US</dc:language>
  <cp:lastModifiedBy>Matthew Gardner</cp:lastModifiedBy>
  <dcterms:modified xsi:type="dcterms:W3CDTF">2002-10-04T14:41:06Z</dcterms:modified>
  <cp:revision>110</cp:revision>
  <dc:subject/>
  <dc:title>Slide 1</dc:title>
</cp:coreProperties>
</file>